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BE17B-AF04-48A8-A2FB-C12ED573A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69CF1-0119-432D-BA27-15F3EC07D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6C3CC-FEF5-457A-B98E-665F36EFE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66AD4-1734-4721-8CEC-F8D5AD5F6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64FBA-918A-4E85-B06D-228A5023B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B8925-B034-4EFF-86A1-5D93A8541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B4EE2-B773-4B68-BFA7-7354363FF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B8913-0333-4765-B6B8-973BCD085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74213-8157-46AB-A4D5-5644F8A9E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3DA6B-702B-4B25-B3D4-04944EE29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DC931-A1FA-4E7C-9691-39AEF7790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B4C56-2866-4AE2-A44D-DCCA5C652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BA44C-132D-43D9-9F93-A48BE1671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3CE70-5C05-450A-8372-FFC84D307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A0859-EFA7-4638-AD2C-E0F55A0A7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F41556-7287-4358-9D32-4BC197430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27E7B-E6EB-4599-BD9D-D663C9969B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27B623-5649-4BF3-A6E7-7674FB2749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B0A8AC-49A7-4A37-88B3-D13BCBF65C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2506E9-7225-474A-AAD7-28FF7B209E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E80608-18E2-46CB-B2AD-11C449263A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E0BEFC-BF45-451C-9AFE-BC8E09B6DA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0D6DF-9448-4976-8860-0F908D869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9FE22E-3688-4D08-9C1A-044E8B19E3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BD1DD-D3F4-46A8-8C93-6F4ECD8682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F941C-3194-4883-9E66-8BB0B4F8C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4B5F2-39A8-474F-BD7A-6363A20A8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78EFF6-0F97-4125-AD35-B4D914F5F7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43D41D-9792-4FE3-8E9B-8BFCD3971F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9FE9AA-5EB9-47E5-A7E5-59FECB786D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6FAF8E-B070-48EA-BCA5-5A75651BB6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1BF5A6-63BF-4280-AF0A-B6AFFB5FC6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9B8E18-2EE3-47FA-A247-D47A48785C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84713-80E5-4CF4-BDD8-C9C5384AD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573CF0-C38B-4264-AAE5-4E68FDCE59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FD849C-2100-4EFE-A747-4115110077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43B998-E167-4F0F-B858-7C207CC3EC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2DB6BF-EA61-49B4-B588-8D2A988D5E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7B1F5-4529-4C17-B315-7F39FB9A5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74C124-1037-4C2D-BEA3-5BB625568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E93DBE-34B1-4A05-B139-E2D4834BEF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9023A1-9808-4B47-92A0-2592B17BF5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919003-B56B-4454-AB05-6B6F456E01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9DF7DC-AC64-4F26-AB5C-B1F7BA6A9E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3C16A-2481-4B94-8919-BACD93E7F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758434-B232-4C2D-B65F-7C9EB3D0CF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B62FEA-B2F2-4775-961D-21B495EC29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DB661D-9C70-4BF0-8C3A-D3EE070296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617FFA-49CE-4E5B-A223-5BB2A914D6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BC360F-CE5D-48C7-8067-217284BCC7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7C83E2-1F64-4F33-BB4F-997C95FF78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895F5-5BB5-416D-97C0-CA9034F570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E0772E-A76E-4890-AC0B-960E21A598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683E22-F989-4381-AD12-8ABA8E6CAB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820273-E55F-4424-B37C-0B773419CF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10368-4D2B-47FC-9631-78F31E5FF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095232-1199-4452-A0DC-DB018A8881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ABA468-EE40-4578-96CD-253219D3A9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53DD4A-9319-4E68-A307-87ACB8E229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E6825D-82E1-41AD-B989-218F6204C0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83AF11-51D6-4A98-A15D-433C88995F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BE7882-E895-47EC-B6BB-EE048F240B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59948E-619E-48E7-840D-D0287D80CC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341D30-9AB9-483D-9FC6-3B3D07C30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73B56D-43A2-4D3F-9AD5-7F3745C07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CC0C3D-3C11-421C-84EA-88B99D7519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F0BCA-2946-4C61-8494-914D5FD80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DA3988-A231-4112-8AF6-BD14B8AF9C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98B870-9896-44C4-AF85-EE76586598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BB38C0-493D-4BD5-9441-1C0FA4D6EA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12E212-52FD-48E3-BAA1-5BD95ED49A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028D3F-A2F1-435B-A6D6-670894C639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DAE457-8795-4720-9375-1C07F4292D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42DFDE-1150-4467-8C22-475CF69D59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577DA9-1FD2-482A-BCF5-4A3B5AB9CF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214A98-819B-4F67-99E8-43FB05AD9C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BDF833-8B3C-4263-9BCD-E011C79BD5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98D3F-D301-40EA-B27E-DAEF564BC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E3EB8B-3650-41CA-8ACF-0B093A8D40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BC0347-39E4-4663-8E91-020559276A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0A9C9D-9B2E-44E0-93A5-3EE385E9A5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3A1091-47BD-4B5C-B651-E1A32524CF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4A61A0-7126-42D3-878E-EE6BEE4FED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A838E-9275-4B71-9C5D-BB06B89F1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97BF-2F79-42BB-90C7-7511C70AA65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BA56-E93A-4EFA-88FD-BCB7CD2B6F5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12F2-2B02-4133-B2A8-B5B3C535ED0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2DF1-BA1C-41FB-AC3E-F9592B43022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EE74-1F41-442D-8602-6C9DEC12DA2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29C7-B300-4F7C-8179-9984C70F781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E3D0-E6B1-4D56-9725-DB61AD15AF0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05" name="Picture 3" descr="Picture1a.jpg"/>
          <p:cNvPicPr/>
          <p:nvPr/>
        </p:nvPicPr>
        <p:blipFill>
          <a:blip r:embed="rId2"/>
          <a:stretch/>
        </p:blipFill>
        <p:spPr>
          <a:xfrm>
            <a:off x="3505320" y="1981080"/>
            <a:ext cx="1914480" cy="109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50720" y="152280"/>
            <a:ext cx="824256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ow can a five-star hotel in one city be so different in its services, quality and facilities from a hotel in another part of the world?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ne of the most important elements of the guest hotel experience is service standards, which do not generally form part of a hotel rating syste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0720" y="152280"/>
            <a:ext cx="8242560" cy="126216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rIns="90000" tIns="91440" bIns="46800" anchor="t">
            <a:normAutofit fontScale="97000"/>
          </a:bodyPr>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nvironmentally friendly facilities will are now a core criterion of China's hotel rating system.</a:t>
            </a:r>
            <a:endParaRPr b="0" lang="en-US" sz="3000" spc="-1" strike="noStrike">
              <a:solidFill>
                <a:srgbClr val="000000"/>
              </a:solidFill>
              <a:latin typeface="Corbel"/>
            </a:endParaRPr>
          </a:p>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Green measures can be reflected in many dimensions, such as hotels' design and architecture, their building materials' selection and their customers' consumption habits, which hotels can influence.</a:t>
            </a:r>
            <a:endParaRPr b="0" lang="en-US" sz="3000" spc="-1" strike="noStrike">
              <a:solidFill>
                <a:srgbClr val="000000"/>
              </a:solidFill>
              <a:latin typeface="Corbel"/>
            </a:endParaRPr>
          </a:p>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hina currently has more than 14,000 hotels, including 572 five-star establishments and 2,149 four-star hotels.</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450720" y="152280"/>
            <a:ext cx="8242560" cy="1262160"/>
          </a:xfrm>
          <a:prstGeom prst="rect">
            <a:avLst/>
          </a:prstGeom>
          <a:ln w="0">
            <a:noFill/>
          </a:ln>
        </p:spPr>
      </p:pic>
      <p:sp>
        <p:nvSpPr>
          <p:cNvPr id="32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hould the industry adopt some sort of international rating standard that would supersede the ever-growing number of independent and consumer-generated Internet ranking sites?</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Is that even possible?</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Does a sixth tier need to be created to add new, ultra-luxury properties to what have traditionally been five-category ranking system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28760" y="285480"/>
            <a:ext cx="8229600" cy="1143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d8d8da"/>
              </a:solidFill>
              <a:latin typeface="Corbel"/>
            </a:endParaRPr>
          </a:p>
        </p:txBody>
      </p:sp>
      <p:sp>
        <p:nvSpPr>
          <p:cNvPr id="307" name=""/>
          <p:cNvSpPr txBox="1"/>
          <p:nvPr/>
        </p:nvSpPr>
        <p:spPr>
          <a:xfrm>
            <a:off x="0" y="1447920"/>
            <a:ext cx="9144000" cy="4525920"/>
          </a:xfrm>
          <a:prstGeom prst="rect">
            <a:avLst/>
          </a:prstGeom>
          <a:solidFill>
            <a:srgbClr val="ffc000"/>
          </a:solidFill>
          <a:ln w="0">
            <a:noFill/>
          </a:ln>
        </p:spPr>
        <p:txBody>
          <a:bodyPr lIns="54720" rIns="90000" tIns="91440" bIns="4680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re is so far no international classification which has been adopted.</a:t>
            </a:r>
            <a:endParaRPr b="0" lang="en-US" sz="28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ny countries use 1 to 5 star system</a:t>
            </a:r>
            <a:endParaRPr b="0" lang="en-US" sz="28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USA hotels are rated from 1 to 5 diamonds</a:t>
            </a:r>
            <a:endParaRPr b="0" lang="en-US" sz="28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me hotels have claimed a six or seven-star rating for their operation. (Example: Burj Al Arab in Dubai 7 star)</a:t>
            </a:r>
            <a:endParaRPr b="0" lang="en-US" sz="28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308" name="Picture 6" descr="http://www.fotosearch.com/bthumb/ICN/ICN261/F0022540.jpg"/>
          <p:cNvPicPr/>
          <p:nvPr/>
        </p:nvPicPr>
        <p:blipFill>
          <a:blip r:embed="rId1"/>
          <a:stretch/>
        </p:blipFill>
        <p:spPr>
          <a:xfrm>
            <a:off x="1981080" y="4267080"/>
            <a:ext cx="5262840" cy="23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52280"/>
            <a:ext cx="8504280" cy="1262160"/>
          </a:xfrm>
          <a:prstGeom prst="rect">
            <a:avLst/>
          </a:prstGeom>
          <a:ln w="0">
            <a:noFill/>
          </a:ln>
        </p:spPr>
      </p:pic>
      <p:sp>
        <p:nvSpPr>
          <p:cNvPr id="310" name=""/>
          <p:cNvSpPr txBox="1"/>
          <p:nvPr/>
        </p:nvSpPr>
        <p:spPr>
          <a:xfrm>
            <a:off x="457200" y="1774800"/>
            <a:ext cx="8229600" cy="4626000"/>
          </a:xfrm>
          <a:prstGeom prst="rect">
            <a:avLst/>
          </a:prstGeom>
          <a:solidFill>
            <a:srgbClr val="ffd25d"/>
          </a:solidFill>
          <a:ln w="76320">
            <a:solidFill>
              <a:srgbClr val="000000"/>
            </a:solidFill>
            <a:miter/>
          </a:ln>
        </p:spPr>
        <p:txBody>
          <a:bodyPr lIns="54720" rIns="90000" tIns="91440" bIns="4680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ecause there is no overall authority for assigning hotel ratings on an international basis, it is the customer who ultimately decides the quality of the hotel based upon the quality of guest experience.</a:t>
            </a:r>
            <a:endParaRPr b="0" lang="en-US" sz="32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FOLLOWING STAR RATINGS WERE ESTABLISHED BY THE EUROPEAN HOTELSTAR UNIO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6480" y="165240"/>
            <a:ext cx="9156960" cy="1266840"/>
          </a:xfrm>
          <a:prstGeom prst="rect">
            <a:avLst/>
          </a:prstGeom>
          <a:ln w="0">
            <a:noFill/>
          </a:ln>
        </p:spPr>
      </p:pic>
      <p:sp>
        <p:nvSpPr>
          <p:cNvPr id="312" name=""/>
          <p:cNvSpPr txBox="1"/>
          <p:nvPr/>
        </p:nvSpPr>
        <p:spPr>
          <a:xfrm>
            <a:off x="457200" y="1528560"/>
            <a:ext cx="8686800" cy="52578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00 % of the rooms with shower/WC or bath tub/WC</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aily room clean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00 % of the rooms with color-TV together with remote control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able and chair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oap or body wash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ception service - Facsimile at the reception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reakfast - Beverage offered</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1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12">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0" y="1523520"/>
            <a:ext cx="9144000" cy="5334120"/>
          </a:xfrm>
          <a:prstGeom prst="rect">
            <a:avLst/>
          </a:prstGeom>
          <a:noFill/>
          <a:ln w="0">
            <a:noFill/>
          </a:ln>
        </p:spPr>
        <p:txBody>
          <a:bodyPr lIns="54720" rIns="90000" tIns="91440" bIns="4680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addition to the single star (*) hotel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reakfast buffet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ading light next to the bed</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th essence or shower gel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th towels and Linen shelve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ffer of sanitary products (e.g. toothbrush, toothpaste, shaving kit)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ccept Credit Cards</a:t>
            </a:r>
            <a:endParaRPr b="0" lang="en-US" sz="3200" spc="-1" strike="noStrike">
              <a:solidFill>
                <a:srgbClr val="000000"/>
              </a:solidFill>
              <a:latin typeface="Corbel"/>
            </a:endParaRPr>
          </a:p>
        </p:txBody>
      </p:sp>
      <p:sp>
        <p:nvSpPr>
          <p:cNvPr id="314" name="Title 1"/>
          <p:cNvSpPr/>
          <p:nvPr/>
        </p:nvSpPr>
        <p:spPr>
          <a:xfrm>
            <a:off x="0" y="2286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315" name="Rectangle 5"/>
          <p:cNvSpPr/>
          <p:nvPr/>
        </p:nvSpPr>
        <p:spPr>
          <a:xfrm>
            <a:off x="0" y="4572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rbel"/>
              </a:rPr>
              <a:t>                                               </a:t>
            </a:r>
            <a:r>
              <a:rPr b="1" lang="en-US" sz="3200" spc="-1" strike="noStrike">
                <a:solidFill>
                  <a:srgbClr val="ff0000"/>
                </a:solidFill>
                <a:latin typeface="Corbel"/>
              </a:rPr>
              <a:t>Two Star</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13">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13">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3">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3">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31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0" y="1447920"/>
            <a:ext cx="9144000" cy="557208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In addition to the standard star (**) hotels: - </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Reception opened 14 hours, accessible by phone 24 hours from inside and outside, </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bilingual staff (e.g. German/English) </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Luggage service</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Beverage offer in the room </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elephone in the room - Internet access in the room or in the public area </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air-dryer, cleansing tissue - Dressing mirror, place to put the luggage/suitcase </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wing kit, shoe polish utensils, laundry and ironing service </a:t>
            </a:r>
            <a:endParaRPr b="0" lang="en-US" sz="3000" spc="-1" strike="noStrike">
              <a:solidFill>
                <a:srgbClr val="000000"/>
              </a:solidFill>
              <a:latin typeface="Corbel"/>
            </a:endParaRPr>
          </a:p>
        </p:txBody>
      </p:sp>
      <p:pic>
        <p:nvPicPr>
          <p:cNvPr id="317" name="Title 1" descr=""/>
          <p:cNvPicPr/>
          <p:nvPr/>
        </p:nvPicPr>
        <p:blipFill>
          <a:blip r:embed="rId1"/>
          <a:stretch/>
        </p:blipFill>
        <p:spPr>
          <a:xfrm>
            <a:off x="-6480" y="165240"/>
            <a:ext cx="9156960" cy="12668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0" y="1285920"/>
            <a:ext cx="9144000" cy="5572080"/>
          </a:xfrm>
          <a:prstGeom prst="rect">
            <a:avLst/>
          </a:prstGeom>
          <a:noFill/>
          <a:ln w="0">
            <a:noFill/>
          </a:ln>
        </p:spPr>
        <p:txBody>
          <a:bodyPr lIns="54720" rIns="90000" tIns="91440" bIns="4680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addition to the comfort star (***) hotels: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bby with seats and beverage service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eakfast buffet or breakfast menu card via room service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inibar or 24 hours beverages via room service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rm chair/sofa with side table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th robe and slippers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smetic products (e.g. shower cap, nail file, cotton swabs), vanity mirror, tray of a large scale in the bathroom)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Internet access and internet terminal </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À la carte"-restaurant</a:t>
            </a:r>
            <a:endParaRPr b="0" lang="en-US" sz="3200" spc="-1" strike="noStrike">
              <a:solidFill>
                <a:srgbClr val="000000"/>
              </a:solidFill>
              <a:latin typeface="Corbel"/>
            </a:endParaRPr>
          </a:p>
        </p:txBody>
      </p:sp>
      <p:pic>
        <p:nvPicPr>
          <p:cNvPr id="319" name="Title 1" descr=""/>
          <p:cNvPicPr/>
          <p:nvPr/>
        </p:nvPicPr>
        <p:blipFill>
          <a:blip r:embed="rId1"/>
          <a:stretch/>
        </p:blipFill>
        <p:spPr>
          <a:xfrm>
            <a:off x="-6480" y="304920"/>
            <a:ext cx="9156960" cy="12747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0" y="1447920"/>
            <a:ext cx="9144000" cy="557208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addition to the (****) hotel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ception opened 24 hour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ultilingual staff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oorman-service or valet parking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cierg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pacious reception hall with several seats and beverage service </a:t>
            </a:r>
            <a:endParaRPr b="0" lang="en-US" sz="3200" spc="-1" strike="noStrike">
              <a:solidFill>
                <a:srgbClr val="000000"/>
              </a:solidFill>
              <a:latin typeface="Corbel"/>
            </a:endParaRPr>
          </a:p>
        </p:txBody>
      </p:sp>
      <p:pic>
        <p:nvPicPr>
          <p:cNvPr id="321" name="Title 1" descr=""/>
          <p:cNvPicPr/>
          <p:nvPr/>
        </p:nvPicPr>
        <p:blipFill>
          <a:blip r:embed="rId1"/>
          <a:stretch/>
        </p:blipFill>
        <p:spPr>
          <a:xfrm>
            <a:off x="-6480" y="165240"/>
            <a:ext cx="9156960" cy="1266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0" y="1523880"/>
            <a:ext cx="9144000" cy="557208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ersonalized greeting for each guest with fresh flowers or a present in the room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inibar and food and beverage offer via room service during 24 hour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afe in the room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roning service (return within 1 h)</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hoe polish service</a:t>
            </a:r>
            <a:endParaRPr b="0" lang="en-US" sz="3200" spc="-1" strike="noStrike">
              <a:solidFill>
                <a:srgbClr val="000000"/>
              </a:solidFill>
              <a:latin typeface="Corbel"/>
            </a:endParaRPr>
          </a:p>
        </p:txBody>
      </p:sp>
      <p:sp>
        <p:nvSpPr>
          <p:cNvPr id="323" name="PlaceHolder 1"/>
          <p:cNvSpPr>
            <a:spLocks noGrp="1"/>
          </p:cNvSpPr>
          <p:nvPr>
            <p:ph type="title"/>
          </p:nvPr>
        </p:nvSpPr>
        <p:spPr>
          <a:xfrm>
            <a:off x="0" y="428400"/>
            <a:ext cx="9144000" cy="1143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500" spc="-1" strike="noStrike">
              <a:solidFill>
                <a:srgbClr val="d8d8da"/>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11:43:28Z</dcterms:created>
  <dc:creator>robert</dc:creator>
  <dc:description/>
  <dc:language>en-US</dc:language>
  <cp:lastModifiedBy>robert</cp:lastModifiedBy>
  <dcterms:modified xsi:type="dcterms:W3CDTF">2011-03-31T12:59:51Z</dcterms:modified>
  <cp:revision>8</cp:revision>
  <dc:subject/>
  <dc:title>Slide 1</dc:title>
</cp:coreProperties>
</file>